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8127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0663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0663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8127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8127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8127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8127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7" descr=""/>
          <p:cNvPicPr/>
          <p:nvPr/>
        </p:nvPicPr>
        <p:blipFill>
          <a:blip r:embed="rId2"/>
          <a:stretch/>
        </p:blipFill>
        <p:spPr>
          <a:xfrm>
            <a:off x="533520" y="907920"/>
            <a:ext cx="8076960" cy="541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1.xml"/><Relationship Id="rId5" Type="http://schemas.openxmlformats.org/officeDocument/2006/relationships/slide" Target="slide22.xml"/><Relationship Id="rId6" Type="http://schemas.openxmlformats.org/officeDocument/2006/relationships/slide" Target="slide34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Arial"/>
              </a:rPr>
              <a:t>6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Arial"/>
              </a:rPr>
              <a:t>MCS-51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单片机系统扩展技术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Arial"/>
              </a:rPr>
              <a:t>	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1" action="ppaction://hlinksldjump"/>
              </a:rPr>
              <a:t>6.1  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2" action="ppaction://hlinksldjump"/>
              </a:rPr>
              <a:t>MCS-51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3" action="ppaction://hlinksldjump"/>
              </a:rPr>
              <a:t>单片机系统扩展的基本概念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4" action="ppaction://hlinksldjump"/>
              </a:rPr>
              <a:t>6.2  程序存储器扩展技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5" action="ppaction://hlinksldjump"/>
              </a:rPr>
              <a:t>6.3  数据存储器扩展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6" action="ppaction://hlinksldjump"/>
              </a:rPr>
              <a:t>6.4  输入/输出口扩展技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5257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来控制片外存储器换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76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43000" y="990720"/>
          <a:ext cx="598176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598176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70833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2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程序存储器扩展技术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1" action="ppaction://hlinksldjump"/>
              </a:rPr>
              <a:t>6.2.1  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2" action="ppaction://hlinksldjump"/>
              </a:rPr>
              <a:t>EPROM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3" action="ppaction://hlinksldjump"/>
              </a:rPr>
              <a:t>扩展电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4" action="ppaction://hlinksldjump"/>
              </a:rPr>
              <a:t>6.2.2  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5" action="ppaction://hlinksldjump"/>
              </a:rPr>
              <a:t>EEPROM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hlinkClick r:id="rId6" action="ppaction://hlinksldjump"/>
              </a:rPr>
              <a:t>扩展电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447920" y="1158840"/>
          <a:ext cx="495288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58840"/>
                    <a:ext cx="495288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784200" y="609480"/>
            <a:ext cx="911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5  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芯片管脚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2.1  EPROM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扩展电路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912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60958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526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6-6" descr=""/>
          <p:cNvPicPr/>
          <p:nvPr/>
        </p:nvPicPr>
        <p:blipFill>
          <a:blip r:embed="rId1"/>
          <a:stretch/>
        </p:blipFill>
        <p:spPr>
          <a:xfrm>
            <a:off x="838080" y="985680"/>
            <a:ext cx="5953320" cy="5110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89120" y="106668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6  2764 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2764A  EPROM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扩展电路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27128A  EPROM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扩展电路 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3856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t6-7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4467240" cy="3838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13520" y="914400"/>
            <a:ext cx="546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7  27128A 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33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2.2  EEPROM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扩展电路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EEPRO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是一种电擦除可编程只读存储器，其主要特点是能在计算机系统中进行在线修改，并能在断电的情况下保持修改的结果。因而在智能化仪器仪表、控制装置等领域得到普遍采用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常用的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EEPRO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芯片主要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Intel 2817A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864A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等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5756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35560" y="1066680"/>
            <a:ext cx="546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8  2817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管脚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219320"/>
            <a:ext cx="87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2817A EEPROM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扩展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81080" y="1219320"/>
          <a:ext cx="342756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342756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6-9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5762520" cy="4764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759800" y="685800"/>
            <a:ext cx="546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9  2817A  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523880" y="533520"/>
            <a:ext cx="4800600" cy="5333760"/>
            <a:chOff x="1523880" y="533520"/>
            <a:chExt cx="4800600" cy="5333760"/>
          </a:xfrm>
        </p:grpSpPr>
        <p:sp>
          <p:nvSpPr>
            <p:cNvPr id="99" name=""/>
            <p:cNvSpPr/>
            <p:nvPr/>
          </p:nvSpPr>
          <p:spPr>
            <a:xfrm>
              <a:off x="2691360" y="533520"/>
              <a:ext cx="1652400" cy="1180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设置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源数据块首址标区首地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79120" y="2046600"/>
              <a:ext cx="1686600" cy="3740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原地址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=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25720" y="2896920"/>
              <a:ext cx="1321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SA&gt;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末地址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04680" y="3529440"/>
              <a:ext cx="1652400" cy="385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写入一个字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9040" y="4231800"/>
              <a:ext cx="1321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.0=0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03600" y="4870080"/>
              <a:ext cx="1687320" cy="60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源地址加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目标地址加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8360" y="3399840"/>
              <a:ext cx="1320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传送结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35960" y="3283560"/>
              <a:ext cx="1388520" cy="499680"/>
            </a:xfrm>
            <a:prstGeom prst="flowChartTerminator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65160" y="4138560"/>
              <a:ext cx="1536480" cy="488160"/>
            </a:xfrm>
            <a:prstGeom prst="flowChartDecis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50400" y="2808360"/>
              <a:ext cx="1536480" cy="488160"/>
            </a:xfrm>
            <a:prstGeom prst="flowChartDecis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1714320"/>
              <a:ext cx="0" cy="331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18640" y="2444760"/>
              <a:ext cx="0" cy="331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5320" y="3287160"/>
              <a:ext cx="0" cy="25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32680" y="3921840"/>
              <a:ext cx="0" cy="22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46000" y="4618440"/>
              <a:ext cx="0" cy="25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46000" y="5480640"/>
              <a:ext cx="0" cy="386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523880" y="1856160"/>
              <a:ext cx="0" cy="399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3880" y="1856520"/>
              <a:ext cx="1981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3880" y="5848560"/>
              <a:ext cx="2016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67080" y="3050640"/>
              <a:ext cx="132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84320" y="3060000"/>
              <a:ext cx="0" cy="22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3000" y="4378680"/>
              <a:ext cx="75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46000" y="3980160"/>
              <a:ext cx="1490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41080" y="3989520"/>
              <a:ext cx="0" cy="395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479640" y="45720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0  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传送流程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2864A  EEPROM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扩展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5756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4240" y="1600200"/>
            <a:ext cx="91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1  2864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管脚配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62320" y="990720"/>
          <a:ext cx="2952720" cy="49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90720"/>
                    <a:ext cx="295272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1  MCS-51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单片机系统扩展的基本概念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.1.1  MCS-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单片机最小应用系统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.1.2  MCS-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单片机的外部扩展性能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864A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有四种工作方式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维持方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读出方式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写入方式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数据查询方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864A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803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单片机的硬件连接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-1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0492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t6-2-8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5695920" cy="471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089120" y="685800"/>
            <a:ext cx="91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2  2864A  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33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3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数据存储器扩展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.3.1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静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扩展电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.3.2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动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扩展电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3.1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静态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RAM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扩展电路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常用的静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芯片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116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26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2256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等，其管脚配置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-1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626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静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扩展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-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给出了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26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操作方式，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-1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26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静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扩展电路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62256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静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扩展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22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K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静态随机存储器芯片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M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艺制作，单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5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电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双列直插式封装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383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105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用静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芯片管脚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52480" y="1066680"/>
          <a:ext cx="543888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066680"/>
                    <a:ext cx="543888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43200" y="121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  626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操作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6440" y="-4199040"/>
            <a:ext cx="187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18080" y="-4199040"/>
            <a:ext cx="187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-4199040"/>
            <a:ext cx="187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4240" y="-5802480"/>
            <a:ext cx="111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管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6440" y="-4199040"/>
            <a:ext cx="187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18080" y="-4199040"/>
            <a:ext cx="187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-4199040"/>
            <a:ext cx="187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84240" y="-5802480"/>
            <a:ext cx="111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管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2057400"/>
          <a:ext cx="635796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635796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1472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6-3-2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786280" cy="4781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0512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4  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33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3.2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动态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RAM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扩展电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64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扩展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Wingdings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行列地址选通信号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刷新方法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地址信息延时的实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490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90720" y="1133640"/>
          <a:ext cx="685800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33640"/>
                    <a:ext cx="685800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905120" y="48006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5  2164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芯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9862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14600" y="990720"/>
          <a:ext cx="554832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990720"/>
                    <a:ext cx="554832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09680" y="4952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6  64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1.1  MCS-51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单片机最小应用系统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8051/87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最小应用系统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-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所示）。由于集成度的限制，这种最小应用系统只能用作一些小型的控制单元。其应用特点是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全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口线均可供用户使用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内部存储器容量有限（只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KB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地址空间）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应用系统开发具有特殊性。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051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59665"/>
          <a:stretch/>
        </p:blipFill>
        <p:spPr>
          <a:xfrm>
            <a:off x="657360" y="609480"/>
            <a:ext cx="6734160" cy="1908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1460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64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3135240"/>
          <a:ext cx="6781680" cy="25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135240"/>
                    <a:ext cx="678168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165440" y="914400"/>
            <a:ext cx="911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7  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64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线定时波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8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集成动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扩展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18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片内具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8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动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的集成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单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+5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电，工作电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70m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维持电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0m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存取时间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50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双列直插式封装，管脚与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26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静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完全兼容，其管脚配置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-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给出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051/87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扩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8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成动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硬件电路图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362320" y="838080"/>
          <a:ext cx="3236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838080"/>
                    <a:ext cx="3236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404040" y="1295280"/>
            <a:ext cx="546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8  2817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管脚配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79072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t6-19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5286600" cy="4367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708240" y="457200"/>
            <a:ext cx="911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9  218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集成动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33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4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输入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输出口扩展技术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.4.1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简单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口扩展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.4.2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可编程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口扩展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4.1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简单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I/O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口扩展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并行口扩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要根据“输入三态，输出锁存”与总线相连的原则，选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4L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T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即能组成简单的扩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。例如采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三态缓冲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4LS24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成输入口，采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锁存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4LS27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4LS37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4LS37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组成输出口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给出了一种简单的输入、输出口扩展电路。当要扩展多个输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口时，可采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连接方法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9242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t6-4-1" descr=""/>
          <p:cNvPicPr/>
          <p:nvPr/>
        </p:nvPicPr>
        <p:blipFill>
          <a:blip r:embed="rId1"/>
          <a:stretch/>
        </p:blipFill>
        <p:spPr>
          <a:xfrm>
            <a:off x="1247760" y="838080"/>
            <a:ext cx="5305320" cy="4969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708240" y="1219320"/>
            <a:ext cx="91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4526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3880" y="863640"/>
          <a:ext cx="609624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63640"/>
                    <a:ext cx="60962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752480" y="5334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串行口扩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片机串行口工作在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使用移位寄存器芯片可以扩展一个或多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并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。这种方法不会占用片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，而且可节省单片机的硬件开销。缺点是操作速度较慢，扩展芯片越多，速度越慢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给出了利用串行口扩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并行输入口（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4LS1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和扩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并行输出口（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4LS16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的接口电路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52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295280"/>
          <a:ext cx="663876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6387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057400" y="5181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串行口扩展并行输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1476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19320" y="1219320"/>
          <a:ext cx="5057640" cy="40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505764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708240" y="914400"/>
            <a:ext cx="91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  8051/87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小应用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68128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19320" y="1143000"/>
          <a:ext cx="6234120" cy="32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6234120" cy="32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057400" y="4952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串行口扩展并行输出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833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4.2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可编程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I/O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口扩展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1371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常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系列可编程接口芯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57200" y="2209680"/>
            <a:ext cx="8381520" cy="2057400"/>
            <a:chOff x="457200" y="2209680"/>
            <a:chExt cx="8381520" cy="2057400"/>
          </a:xfrm>
        </p:grpSpPr>
        <p:grpSp>
          <p:nvGrpSpPr>
            <p:cNvPr id="212" name=""/>
            <p:cNvGrpSpPr/>
            <p:nvPr/>
          </p:nvGrpSpPr>
          <p:grpSpPr>
            <a:xfrm>
              <a:off x="464400" y="2211840"/>
              <a:ext cx="8365680" cy="2052720"/>
              <a:chOff x="464400" y="2211840"/>
              <a:chExt cx="8365680" cy="20527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464400" y="2211840"/>
                <a:ext cx="1303560" cy="352800"/>
                <a:chOff x="464400" y="2211840"/>
                <a:chExt cx="1303560" cy="3528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73480" y="2211840"/>
                  <a:ext cx="1085040" cy="3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型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4400" y="2211840"/>
                  <a:ext cx="1303560" cy="35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768320" y="2211840"/>
                <a:ext cx="2814840" cy="352800"/>
                <a:chOff x="1768320" y="2211840"/>
                <a:chExt cx="2814840" cy="3528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876680" y="2211840"/>
                  <a:ext cx="2597400" cy="3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名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768320" y="2211840"/>
                  <a:ext cx="2814840" cy="35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583880" y="2211840"/>
                <a:ext cx="4246200" cy="352800"/>
                <a:chOff x="4583880" y="2211840"/>
                <a:chExt cx="4246200" cy="352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692960" y="2211840"/>
                  <a:ext cx="4028040" cy="3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583880" y="2211840"/>
                  <a:ext cx="4246200" cy="35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64400" y="2564640"/>
                <a:ext cx="1303560" cy="286920"/>
                <a:chOff x="464400" y="2564640"/>
                <a:chExt cx="1303560" cy="286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73480" y="2564640"/>
                  <a:ext cx="108504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815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4400" y="2564640"/>
                  <a:ext cx="1303560" cy="28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768320" y="2564640"/>
                <a:ext cx="2814840" cy="286920"/>
                <a:chOff x="1768320" y="2564640"/>
                <a:chExt cx="2814840" cy="286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876680" y="2564640"/>
                  <a:ext cx="259740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并行接口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768320" y="2564640"/>
                  <a:ext cx="2814840" cy="28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583880" y="2564640"/>
                <a:ext cx="4246200" cy="286920"/>
                <a:chOff x="4583880" y="2564640"/>
                <a:chExt cx="4246200" cy="2869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692960" y="2564640"/>
                  <a:ext cx="402804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带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256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字节的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RAM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4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位定时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计数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583880" y="2564640"/>
                  <a:ext cx="4246200" cy="28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64400" y="2851920"/>
                <a:ext cx="1303560" cy="352800"/>
                <a:chOff x="464400" y="2851920"/>
                <a:chExt cx="1303560" cy="3528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73480" y="2851920"/>
                  <a:ext cx="1085040" cy="3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825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64400" y="2851920"/>
                  <a:ext cx="1303560" cy="35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768320" y="2851920"/>
                <a:ext cx="2814840" cy="352800"/>
                <a:chOff x="1768320" y="2851920"/>
                <a:chExt cx="2814840" cy="3528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876680" y="2851920"/>
                  <a:ext cx="2597400" cy="3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通用并行接口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768320" y="2851920"/>
                  <a:ext cx="2814840" cy="35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583880" y="2851920"/>
                <a:ext cx="4246200" cy="352800"/>
                <a:chOff x="4583880" y="2851920"/>
                <a:chExt cx="4246200" cy="352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692960" y="2851920"/>
                  <a:ext cx="4028040" cy="3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583880" y="2851920"/>
                  <a:ext cx="4246200" cy="35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64400" y="3205080"/>
                <a:ext cx="1303560" cy="353160"/>
                <a:chOff x="464400" y="3205080"/>
                <a:chExt cx="1303560" cy="3531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73480" y="3205080"/>
                  <a:ext cx="108504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825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64400" y="3205080"/>
                  <a:ext cx="1303560" cy="35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768320" y="3205080"/>
                <a:ext cx="2814840" cy="353160"/>
                <a:chOff x="1768320" y="3205080"/>
                <a:chExt cx="2814840" cy="353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876680" y="3205080"/>
                  <a:ext cx="259740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同步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异步通讯接口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768320" y="3205080"/>
                  <a:ext cx="2814840" cy="35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583880" y="3205080"/>
                <a:ext cx="4246200" cy="353160"/>
                <a:chOff x="4583880" y="3205080"/>
                <a:chExt cx="4246200" cy="353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692960" y="3205080"/>
                  <a:ext cx="402804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583880" y="3205080"/>
                  <a:ext cx="4246200" cy="35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64400" y="3558240"/>
                <a:ext cx="1303560" cy="352800"/>
                <a:chOff x="464400" y="3558240"/>
                <a:chExt cx="1303560" cy="3528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73480" y="3558240"/>
                  <a:ext cx="1085040" cy="3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825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4400" y="3558240"/>
                  <a:ext cx="1303560" cy="35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1768320" y="3558240"/>
                <a:ext cx="2814840" cy="352800"/>
                <a:chOff x="1768320" y="3558240"/>
                <a:chExt cx="2814840" cy="3528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876680" y="3558240"/>
                  <a:ext cx="2597400" cy="3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定时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计数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768320" y="3558240"/>
                  <a:ext cx="2814840" cy="35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583880" y="3558240"/>
                <a:ext cx="4246200" cy="352800"/>
                <a:chOff x="4583880" y="3558240"/>
                <a:chExt cx="4246200" cy="352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692960" y="3558240"/>
                  <a:ext cx="4028040" cy="3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583880" y="3558240"/>
                  <a:ext cx="4246200" cy="35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4400" y="3911400"/>
                <a:ext cx="1303560" cy="353160"/>
                <a:chOff x="464400" y="3911400"/>
                <a:chExt cx="1303560" cy="3531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73480" y="3911400"/>
                  <a:ext cx="108504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827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4400" y="3911400"/>
                  <a:ext cx="1303560" cy="35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768320" y="3911400"/>
                <a:ext cx="2814840" cy="353160"/>
                <a:chOff x="1768320" y="3911400"/>
                <a:chExt cx="2814840" cy="3531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876680" y="3911400"/>
                  <a:ext cx="259740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键盘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显示接口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768320" y="3911400"/>
                  <a:ext cx="2814840" cy="35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583880" y="3911400"/>
                <a:ext cx="4246200" cy="353160"/>
                <a:chOff x="4583880" y="3911400"/>
                <a:chExt cx="4246200" cy="353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692960" y="3911400"/>
                  <a:ext cx="402804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583880" y="3911400"/>
                  <a:ext cx="4246200" cy="35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457200" y="2209680"/>
              <a:ext cx="8381520" cy="2057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1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结构和技术性能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1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结构框图。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1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部具有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节的静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存取时间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0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三个通用的输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口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可编程定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数器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地址锁存器及多路转换的地址和数据总线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5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双列直插式封装。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914400" y="990720"/>
            <a:ext cx="5638680" cy="4800240"/>
            <a:chOff x="914400" y="990720"/>
            <a:chExt cx="5638680" cy="4800240"/>
          </a:xfrm>
        </p:grpSpPr>
        <p:graphicFrame>
          <p:nvGraphicFramePr>
            <p:cNvPr id="271" name=""/>
            <p:cNvGraphicFramePr/>
            <p:nvPr/>
          </p:nvGraphicFramePr>
          <p:xfrm>
            <a:off x="914400" y="990720"/>
            <a:ext cx="5638680" cy="472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990720"/>
                      <a:ext cx="5638680" cy="47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"/>
            <p:cNvSpPr/>
            <p:nvPr/>
          </p:nvSpPr>
          <p:spPr>
            <a:xfrm>
              <a:off x="2219400" y="4413960"/>
              <a:ext cx="1033920" cy="3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）逻辑结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64760" y="5421600"/>
              <a:ext cx="103392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）引脚图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6784200" y="685800"/>
            <a:ext cx="911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4  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逻辑结构及引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1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址编码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14400" y="2209680"/>
          <a:ext cx="6781680" cy="30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678168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2514600" y="1447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3  815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口地址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1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工作方式与基本操作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作片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作扩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使用。命令控制字的格式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工作方式如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状态字格式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作定时器使用。其格式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3241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143000" y="1143000"/>
          <a:ext cx="670572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670572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057400" y="5029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5  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控制字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97880" y="838080"/>
            <a:ext cx="1102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90720" y="1905120"/>
          <a:ext cx="7267320" cy="32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26732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981080" y="990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4  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口工作方式及控制信号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4316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143000" y="1143000"/>
          <a:ext cx="636732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636732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981080" y="5334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6  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态字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8620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23880" y="1143000"/>
          <a:ext cx="478656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478656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6784200" y="838080"/>
            <a:ext cx="911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7  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时器格式及输出方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803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最小应用系统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803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是片内无程序存储器的单片机芯片，因此，其最小应用系统应在片外扩展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EPRO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-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为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803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外接程序存储器构成的最小系统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片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1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接口与操作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片机可直接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1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接而不需要任何外加逻辑，可以直接为系统增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节外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及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定时器。其基本硬件连接方法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44800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990720" y="685800"/>
          <a:ext cx="669600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669600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447920" y="57150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8  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连接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833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28800" y="2542680"/>
            <a:ext cx="708480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Narrow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Narrow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">
            <a:hlinkClick r:id="" action="ppaction://hlinkshowjump?jump=endshow"/>
          </p:cNvPr>
          <p:cNvSpPr/>
          <p:nvPr/>
        </p:nvSpPr>
        <p:spPr>
          <a:xfrm>
            <a:off x="54864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671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43000" y="1066680"/>
          <a:ext cx="6576840" cy="32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576840" cy="32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36232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  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小应用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833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6.1.2  MCS-51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单片机的外部扩展性能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单片机的片外总线结构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系列单片机片外引脚可以构成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-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所示的三总线结构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地址总线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数据总线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DB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控制总线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CB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所有外部芯片都通过这三组总线进行扩展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52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6-1-3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15000" cy="444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3880" y="57150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3  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总线引脚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单片机的系统扩展能力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当系统要大量配置外围设备以及要扩展较多的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口时，将占去大量的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地址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当应用系统存储扩展容量或扩展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口地址超过单片机地址总线范围时，可采用换体法解决。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6-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所示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07:44:20Z</dcterms:created>
  <dc:creator>liwu</dc:creator>
  <dc:description/>
  <dc:language>en-US</dc:language>
  <cp:lastModifiedBy>新人电脑</cp:lastModifiedBy>
  <dcterms:modified xsi:type="dcterms:W3CDTF">2002-06-10T02:55:17Z</dcterms:modified>
  <cp:revision>28</cp:revision>
  <dc:subject/>
  <dc:title>第6章  MCS-51单片机系统扩展技术 </dc:title>
</cp:coreProperties>
</file>